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1C1A-7340-4FB5-8777-F4741FF17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78EC-FEB7-4A2F-A291-E8D86EF81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9D5C-957D-4320-94CD-A15C8425F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608E-85C0-48CA-9A28-64A48C261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99A0-1ECD-46BB-B91B-CD3698C71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A05D-A01F-4085-8054-9056E3F01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49CA-084C-4197-81B1-44F2B57FF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22A3-3E99-4D76-9DD5-CC3B17556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7CE2-783A-4168-8E03-E40BD8800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0FEC-26CF-4AD6-BE52-F71DC777F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9D44-873F-4FEF-863F-67479872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8806-AF63-4E79-9699-C3E167A7C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657FE-4B9B-4D5D-86CC-77583E7AAB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fd293"/>
                </a:solidFill>
                <a:latin typeface="Optima ExtraBlack"/>
              </a:rPr>
              <a:t>Cenozoic</a:t>
            </a:r>
            <a:br>
              <a:rPr sz="6000"/>
            </a:br>
            <a:endParaRPr b="0" lang="en-US" sz="6000" spc="-1" strike="noStrike">
              <a:solidFill>
                <a:srgbClr val="dfd29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6095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rst sign of early human life discover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5867280" cy="44686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5c1f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fd293"/>
                </a:solidFill>
                <a:latin typeface="Optima ExtraBlack"/>
              </a:rPr>
              <a:t>Precambrian</a:t>
            </a:r>
            <a:br>
              <a:rPr sz="6000"/>
            </a:br>
            <a:endParaRPr b="0" lang="en-US" sz="6000" spc="-1" strike="noStrike">
              <a:solidFill>
                <a:srgbClr val="dfd293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400" y="6019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olcanoes first started forming earths co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09680" y="1600200"/>
            <a:ext cx="4800600" cy="3895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5c1f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fd293"/>
                </a:solidFill>
                <a:latin typeface="Optima ExtraBlack"/>
              </a:rPr>
              <a:t>Precambrian</a:t>
            </a:r>
            <a:br>
              <a:rPr sz="6000"/>
            </a:br>
            <a:endParaRPr b="0" lang="en-US" sz="6000" spc="-1" strike="noStrike">
              <a:solidFill>
                <a:srgbClr val="dfd293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400" y="6095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rd shelled creatures first apperanc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903320" y="1752480"/>
            <a:ext cx="5640480" cy="41468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5c1f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fd293"/>
                </a:solidFill>
                <a:latin typeface="Optima ExtraBlack"/>
              </a:rPr>
              <a:t>Mesozoic</a:t>
            </a:r>
            <a:br>
              <a:rPr sz="6000"/>
            </a:br>
            <a:endParaRPr b="0" lang="en-US" sz="6000" spc="-1" strike="noStrike">
              <a:solidFill>
                <a:srgbClr val="dfd29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61718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inents shift similar to resemble modern 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828800" y="1646280"/>
            <a:ext cx="5486400" cy="45370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5c1f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fd293"/>
                </a:solidFill>
                <a:latin typeface="Optima ExtraBlack"/>
              </a:rPr>
              <a:t>Cenozoic</a:t>
            </a:r>
            <a:br>
              <a:rPr sz="6000"/>
            </a:br>
            <a:endParaRPr b="0" lang="en-US" sz="6000" spc="-1" strike="noStrike">
              <a:solidFill>
                <a:srgbClr val="dfd29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6224400"/>
            <a:ext cx="77724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ands to modern 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905120" y="1600200"/>
            <a:ext cx="5410080" cy="46576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5c1f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fd293"/>
                </a:solidFill>
                <a:latin typeface="Optima ExtraBlack"/>
              </a:rPr>
              <a:t>Paleozoic</a:t>
            </a:r>
            <a:br>
              <a:rPr sz="6000"/>
            </a:br>
            <a:endParaRPr b="0" lang="en-US" sz="6000" spc="-1" strike="noStrike">
              <a:solidFill>
                <a:srgbClr val="dfd29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6171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nt life surfa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600200" y="1679400"/>
            <a:ext cx="6248520" cy="44942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5c1f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fd293"/>
                </a:solidFill>
                <a:latin typeface="Optima ExtraBlack"/>
              </a:rPr>
              <a:t>Cenozoic</a:t>
            </a:r>
            <a:br>
              <a:rPr sz="6000"/>
            </a:br>
            <a:endParaRPr b="0" lang="en-US" sz="6000" spc="-1" strike="noStrike">
              <a:solidFill>
                <a:srgbClr val="dfd29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6248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earance of mamm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133720" y="1676520"/>
            <a:ext cx="5473440" cy="44845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5c1f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fd293"/>
                </a:solidFill>
                <a:latin typeface="Optima ExtraBlack"/>
              </a:rPr>
              <a:t>Mesozoic</a:t>
            </a:r>
            <a:br>
              <a:rPr sz="6000"/>
            </a:br>
            <a:endParaRPr b="0" lang="en-US" sz="6000" spc="-1" strike="noStrike">
              <a:solidFill>
                <a:srgbClr val="dfd29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6248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nosau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514600" y="1447920"/>
            <a:ext cx="4495680" cy="4876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5c1f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fd293"/>
                </a:solidFill>
                <a:latin typeface="Optima ExtraBlack"/>
              </a:rPr>
              <a:t>Precambrian</a:t>
            </a:r>
            <a:br>
              <a:rPr sz="6000"/>
            </a:br>
            <a:endParaRPr b="0" lang="en-US" sz="6000" spc="-1" strike="noStrike">
              <a:solidFill>
                <a:srgbClr val="dfd29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6171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ery few discoveries of fossil evid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5816520" cy="45291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5c1f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5T02:13:15Z</dcterms:created>
  <dc:creator>jen d</dc:creator>
  <dc:description/>
  <dc:language>en-US</dc:language>
  <cp:lastModifiedBy>jen d</cp:lastModifiedBy>
  <dcterms:modified xsi:type="dcterms:W3CDTF">2008-06-15T03:31:37Z</dcterms:modified>
  <cp:revision>4</cp:revision>
  <dc:subject/>
  <dc:title>Precambrian</dc:title>
</cp:coreProperties>
</file>